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4F22-C0A7-4C6F-934E-B4398346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E90-8CC8-4DCD-A8B5-0DF26723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30B-CE38-4E41-A44C-AFF962BE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350-7FBB-4D90-84C7-2875F08E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6DC-2BE7-4649-A38D-387ADD9C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0D3-FDFB-4A83-8945-E413D1A9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D86-6F5B-4C78-A706-5C87B313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15A-CDA6-4789-A4A6-E15F850D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AD8-3F7E-46E1-A4D1-9CA40E33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C87B-94DF-477E-ABF3-A7BE214E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FAA-9FFB-448A-99D0-9ACBC9E5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CDB-81F3-4AF1-A165-53C9DF36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2D3F-653A-4BBD-A9EE-2B370ED8A1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BABB-90A0-4358-A5C4-990ACB08F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2665440" cy="232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7440" y="3355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0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160" y="5493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km Ge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915840"/>
            <a:ext cx="2519280" cy="229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08160" y="33559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2535120" cy="2332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27440" y="33559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0.1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03640" y="3860640"/>
            <a:ext cx="3095640" cy="2733840"/>
            <a:chOff x="3203640" y="3860640"/>
            <a:chExt cx="3095640" cy="2733840"/>
          </a:xfrm>
        </p:grpSpPr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203640" y="3860640"/>
              <a:ext cx="309564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26360" y="604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89920" y="5732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92080" y="53737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45320" y="4005360"/>
              <a:ext cx="7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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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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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26400" y="6165720"/>
              <a:ext cx="104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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2G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0C6A0-417F-4489-918F-77047E2887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3:18:27Z</dcterms:created>
  <dc:creator>J.E Campagne</dc:creator>
  <dc:description/>
  <dc:language>en-US</dc:language>
  <cp:lastModifiedBy>J.E Campagne</cp:lastModifiedBy>
  <dcterms:modified xsi:type="dcterms:W3CDTF">2005-11-30T15:26:52Z</dcterms:modified>
  <cp:revision>6</cp:revision>
  <dc:subject/>
  <dc:title>Diapositive 1</dc:title>
</cp:coreProperties>
</file>